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278-1147-49B7-B912-DB1C0C1C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9D6-22DD-4CC3-9F89-50C625D3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7E346-028A-444D-8E30-E6CA5C33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A10A-0761-429A-BD45-967F97DD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079D0-9587-41AC-9036-5B8580ED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99397-A1D2-4DCD-8C45-8D65DCC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44EAA-5EB9-40F5-BED0-79F7F42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B4F97-4368-4A23-9486-89761EF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23D7F-DA0D-4789-9CBC-9BF1AEBB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F7D3B-C358-454B-B3F3-3F5E1A5B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20F10-4280-4AEC-BE8F-FE38EEFD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3D36B-FDEA-43E4-B70C-89E61D17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467-9ACC-4EBE-80E1-98B5D702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457DB-79F1-45CF-924F-C94F5E9A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CE227-204F-4EFB-9B1D-DC2A71CF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0FCDE-C33C-4FA5-ACB0-7F609E3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833A2-6504-4B8C-ACE2-B50F88B9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0D49D-72D6-47FB-ACC7-EA93C579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DF1D5-0DE4-40FA-B39D-17BE61B8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B1C6C-E7E6-4164-A8FA-E46760B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CA1D7-6F96-46BE-9029-2C76A386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DD63C-7790-4F91-9BC7-BB0D251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B90D8-F234-4F67-B878-E56DC3E7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814-06F7-4391-922B-B6E82DD4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BCE0A-F88E-4EE6-BF87-DA7D57DE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C731D-E8DD-4EDF-ACBE-253618D5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8D75D-70EF-4602-95C8-FC362790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1733A-3EE3-49B2-A90B-C19E77C0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C790-35CC-479D-A2A1-5CE4B1A7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98537-7741-4C14-BA78-7EE30DC3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C8287-97C2-4F33-9706-BD3E962F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344E4-A852-4A50-B7A0-A7FA8051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55299-34C7-4A45-8C00-A58DB0D0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A9AC5-C11D-4AA2-B4FF-18081A6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2163-629F-4FA5-BD89-D2C6E57F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33A0D-68FA-45AF-9336-8613FADC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15FB6-9EF0-4755-AA3F-0BB88F74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FF8FB-B395-4E78-9159-7F22C919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4F42C-A0D8-46FF-A0C5-9644F86C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568EB-A3C4-4B71-8715-CFB693E0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A05F8-FF7C-405D-86A3-5C08C1B1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0EDD-7E64-400A-9948-A359840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14FBD-EBAE-47F1-9354-232EE5F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A7779-0194-48DF-B0F5-C7A6ADC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67E99-4D49-4F6F-9F0A-6E93BC7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D057-E470-4AEA-8745-BBB796BC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6B2D6-938C-474D-8552-0EA2C2C1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B5B0B-525E-47BB-B772-C43142C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CD6F0-81D6-4BFD-A00F-7078D1C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09842-C5C2-4A8C-9D3C-4D610D96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57C99-1CEE-4FA2-ADCA-40818C24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F0D31-FD44-4FD1-9EF6-666BDBAC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04446-3539-487B-9B76-4497227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CCF23-9C11-4F7E-BA77-5E814D1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8055D-6F42-4454-83D6-08402C89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E11CC-B5F2-4C54-9105-9284B5D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48F4-7A4E-4859-A0B5-31E84B38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36AC1-7CE1-4A54-B7B6-1526A843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40185-0A5D-4D98-ACC7-787EC71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161E4-455C-4532-BE4A-74E6AB1D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A6304-2D8A-4E15-B9C8-F603D778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C2FC7-D930-41AA-BE3F-6314B63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1A69D-3B5C-4E46-AEC0-6A63C9D0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BFFAE-A8A0-4358-A8FC-FCE6B5B2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40373-6CCC-48D5-9E89-0F0E03CC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DDFFB-2230-4A96-86F7-5E4316B2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D1445-94E4-4CB5-88D8-8AA05AB4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26A3-492F-4E72-AAAD-F928BC2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C79F0-EE8E-49F4-8BD1-B7390DD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11F40-6920-47D8-B2D7-80E0F109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5E9BF-DAAC-4E69-B9B4-FB9386CA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C605D-627A-4733-94F4-35EBA5A2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E76FF-E962-4055-9ADB-5C5ABE6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3FB0A-4EDA-46F4-BDE8-29DDE713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656E8-7FA7-48D7-850B-3BE5064A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4DF3A-548C-4E6B-BCD2-25C9A343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91A43-F530-4389-8F86-8C9AFC5A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15A9B-343F-4626-85F5-11C7AF3E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2575-32AA-4A5B-B5CF-9372DC49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C112D-9C63-4C89-9FDA-C5D694C9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48178-C1C1-43EC-8C79-4BA4FB8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79F57-A71F-47D3-9357-7E6E3083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570AE-7345-44A8-A1DF-476F4FA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2865C-3DEB-45EC-AA94-5EA45FAC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5473B-B0CE-462A-8C8F-AA3193A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599B8-4565-41B3-80F8-5B5829B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EB34B-31CE-453E-9FAB-CEE7B4D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5C5A6-C804-4095-8FD6-F8099EB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76D01-8923-421C-B9C2-4AE1A750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7FA-24DA-4907-9DDC-8689001A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E9DD5-698E-47E4-ADA8-816AC92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E6FA4-C19F-47E8-A9EE-E367198C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48622-B085-4AA5-A97F-CD38D757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EEC55-2239-402B-BAF4-5DA2425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195D7-283D-4B9E-B0A6-3D895261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9615D-3CF8-4DC8-971D-773854D8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80E33-C627-475D-8F7F-3E87DCEC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EA779-4006-405C-AE67-A785CC1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BE460-56A6-476E-AC05-88E8A84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11411-5BE2-42B4-86DC-64181D1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EC35-D387-442C-A26B-4842A8D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C3D05-845F-4507-BD62-38C43350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6FCB2-DEB1-4645-ABCC-2B09DA49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606D8-479C-4626-ACFC-2764DB3F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E9989-D76A-44B0-81EA-B76D2228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D49D5-EB8C-4214-A4C1-FC03528E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EA7D8-39DC-41E0-AEEA-F4BB000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46FAE-1D9F-46D2-8CF5-2236FD2C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EB340-BC6C-47BB-990B-8D5600CB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F62AF-7BFC-4950-BB25-1581C568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770E9-BAF2-4F10-B55E-6C13C32F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360-CF15-4C98-9590-356B8EC3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B467-2F5C-4C74-AE50-94C3C73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90CF9-349D-4FE8-8B77-FBF9378D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77DB7-1A75-4A06-A0A6-91089F4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5D00E-CC21-4C81-B86F-9AE4C1A9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4B181-AB5C-4536-993B-8011884F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2883B-0337-4CF0-9FBF-F395926F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305F4-EF3D-4207-8561-2148499E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17067-BA48-4E57-BED8-D7CC2F17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80DB8-A324-44F7-918B-3179A36D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49012-9F19-452E-ADAA-9E46E974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8AF6C-9D1C-4B57-B20A-68FA3A20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6024-BBAD-40BE-97B1-EF61085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1F4C4-06CF-4459-ADEF-C0E8BED3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CD9FC-FF83-42EA-93E0-6281FDB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973A6-A2F7-4D7B-A9D5-E6865AB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B17C7-828A-420E-AB50-F409542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75A24-2B4A-49B2-A9BD-2F899049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96E48-F2BC-4AD5-8AF3-EB01E4A8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C0A68-2989-475D-BB91-52F9B91B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A5E3B-5B78-4D70-B6E7-DA9049C4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84B8E-5C00-415F-934A-A0A0572F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8BDA1-9593-4D35-A31A-E382416C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9F22-846B-40E0-8B38-A3FEC38F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F492E-5CD7-4B1B-B5B6-7D618E9B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87BA5-31BC-4793-963D-7C6254E0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E88001-A721-4E98-A9B0-AEE7D3B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00D30-5B53-42C7-9097-ABC1D2A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EF2A0-283C-466C-A664-558E494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B541B-C6FA-4944-A9F0-BCD2B361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7E0A7-B62B-4A2D-BAB6-F6003F44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7D1B7-4A2F-4C96-8B93-017415CE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F4D41-AF5A-464D-A8F9-677CC9D8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2D552-9A6D-441D-8703-D66B6F4F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46AE-C8B0-4A43-825B-03178AC4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5DA93-A72F-4CAC-83EF-CAF82DD7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A5FE71-D0A2-4EF5-88A1-0F48862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3F6E4-753A-4441-A89D-50D3D274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ABF36-B854-45A5-9505-CD180ED3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6CE80E-BF40-4741-85F0-F038C118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5CA1B-286F-467E-956B-9D2A96C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EE79A-054C-4980-8F1F-8669E842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8EA24-7B5B-44CC-93B2-F60CE351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BF588-8DB6-492F-8CB3-380CA3D4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096DF-1723-4B47-9358-2B9351E6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99EC-1183-4E92-A418-E30D2771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17B65-EFF7-494D-9F57-C1461D47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F19DA-0F67-413F-9F0A-D0C7A1E7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193B9B-4E20-4E04-BBE1-67AF65D1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DD719-EBA8-47B4-AA38-E1F5E3EC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DD228-2AE3-4A65-B400-60ABF922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75BD9-15DF-4831-9DBF-F1EB3C9F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C060C-3BD1-44FF-9BF8-F0760C1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F025B-8771-44CF-9842-86C4527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43CC7-2D45-4BF6-A3FF-80AA83F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6AFE75-7F20-4643-95F3-2410785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9C50-A07F-413F-B8B5-820C1BC8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72BAF-54AD-43B2-A75A-41774BFD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44237-F2BA-405C-84F3-96C223A7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28944-2E82-45CE-96A1-2E33F4B3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DB83-0A80-4B03-9091-AEB3A2C2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CF06-A378-490D-9F1B-E0BDDB8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F141-1500-4306-BE31-508BF3AD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7F40-B4DB-46D1-8FFE-C5B91B42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BBB-A26F-4785-9609-CFCE188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C918-91ED-480D-B173-9B75435A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5DFB-CDF0-44E5-AFE5-2594C91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7001-43E7-4949-8A7D-029E2B0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ADF1-FDDF-45F7-826D-9E4ED9F3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7ECF-C21D-4643-B995-C18CDE9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5485-408F-4B03-8FCA-BF64D169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8FF3-354D-45F4-8136-F4440B59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A836-978C-4D53-81C4-2FBFC680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48C7-407D-49C9-827C-58B23170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ADFB-522E-4BB8-9C6D-A45CCB8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EA2-C865-4DD2-A187-A5E3A65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38AA-69B6-404B-A16F-ED1E7700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FC936-3925-4B0C-9B8C-297B32A4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B9E9-E0AD-4E24-A898-BCC7C11D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4D62-BE59-40AF-B9FF-24EE4D3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67A1-A0E4-49DD-BA4B-A774AB2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9CD3-1C5B-4AFE-B650-116358FC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8669-FD10-4709-9D70-0FD223E7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9A12-0FCC-4EA5-A6E6-4F0E932B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D970-82E8-4566-8567-7334B164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740C7-0CAA-46EF-A121-C507AD2B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6CA-EF12-4513-A9BF-A3EAE203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20091-5038-452B-9503-CF1730F4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1C724-49D0-4B9B-87F2-F7B28EA4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53A5-7330-435E-BC73-4372D88C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289F4-9362-4936-8BCA-740AE148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67C4-D188-4ADF-9EBD-4C98B0D4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BF17C-C250-418D-81BF-7C25352E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144E-B993-4A69-8F07-7D5DD46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AF27-53A5-4BD6-87CB-ACAD70C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9F5D-0826-4C52-B260-FA7F3D98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6CF5-ADAF-4D52-90D5-E3281875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939-C592-484E-A53A-43DB9695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95212-8679-4602-A194-18BB879B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522CB-105C-4644-8444-444C610A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5B97-B383-4C02-8C50-83341D03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8D655-61DE-4357-A016-6D374FAC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47B4-F20A-4F0D-8A4C-FD8E4E8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DB2C-9757-48C6-9F07-6C1379D0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7039C-E836-49A8-BC87-7640E710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36A4-39B4-4648-BA42-D5CB8E43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55C2-F6E5-460C-B70C-7945459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C93E-CE32-4292-BBA7-6972B206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8E2-D91B-443F-A794-B937B84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932EA-541B-4A82-9BB8-DC0AD8E9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1162-7EB9-41B1-84D3-95E047E4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0297-B04A-4F79-AF2C-701845CF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4065E-4692-4629-9AEF-69E47612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8D3E3-CA46-4F79-B257-B01FE19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DAC0-7C3A-4733-A2F8-0F87AE7F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C7A37-335F-4CEE-807A-2916D22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6CE3C-1034-4DD4-B019-F8D4B04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BFF9A-2C71-4E9F-9517-4C9B953C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84B7E-850C-4E8B-A681-D23B0EE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1CB-530B-4D4C-BAA6-F56F3CF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B0436-AB3F-4A6C-9BF6-1CA29B25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B044D-D0D5-424E-BA0F-8961862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5ED77-A030-4D8C-B679-1BF003CD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52184-C094-4A2E-ADE9-14059446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A16E0-AD7D-4FD4-A0A6-3D3DFAF1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AA4E2-F314-4262-9E2B-0BF4E564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16D4E-409C-4A55-A5D1-46301420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E492E-D269-448E-ADF1-AE2FB6F3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F3A9A-F6BC-4277-8671-CF21E999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D877-124E-4BA4-B527-848C3F46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65C-9452-4772-BA50-BB67582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A0054-B883-4108-8F52-EE8BFCD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CFC5D-00E5-449A-B08F-A1BBDA0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5721-68F4-4F81-AC39-7F52B9B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8BA4E-0975-4BBA-931B-A0BDBD61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67E72-930A-40B6-8836-0750612F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8DA3C-8988-4139-A106-85D24E33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FE86D-12A7-4ECD-B68B-78145BE3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F3771-28AC-4804-A88C-05F0CEF3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88E41-136A-403E-890A-71E5B5DF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B978E-C259-4ECA-90CD-92CADC33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94F8-865F-426E-B247-2B78C24CF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D5DD-FAED-4BD3-B593-22E3DFE93F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0689-1D99-48CE-B4AB-5D9A0661F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9E45-D58B-4459-AE6A-1F5A4C51F0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651-5A8E-4157-B682-3F0631965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D0EB-EACE-47DE-B4FF-F007D1D5F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653D-5927-4C72-845F-15528E956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BDF0-4E89-48A5-8A71-FC4283F94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1AA0-766E-40FD-9A40-064D05B79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E616-07C9-497C-9E65-CBA430BC7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D7E0-7456-4C36-8125-62D08369BE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648-2DD7-473E-944D-25C32919E3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216D-7DF1-459A-94EA-4B3424F2B2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8EE7-B6FD-4816-8218-1664EF922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6BA-9CA9-4FB3-84B4-FBF8C20934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CBF3-31A6-4B3C-97DE-793AD2AE1C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440E-099F-4445-BBF2-42EDEC376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5FB-AC4C-4B1D-BB42-4D66AD018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EB9-D61A-453A-9DDA-AB87E95BD2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8E5-9BCB-4753-B381-86FE69CE83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379-39A4-46F3-8AEF-72EBC4AAEB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B62-FCF6-4FDF-A3D6-1605367BA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B1FF-CBAB-45FD-80FE-83B24B9ECB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06D4-DD2C-4B86-AFE6-387B6D241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DF3B-73F9-4FAE-86E5-CA5F6898F5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1F6-1A4D-40DE-A20D-EA4C08910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83C6-F49B-4FD5-A7CB-2F12AF95A7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4B1-C5F0-4447-9DDD-909DC2D5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31BE-88D0-4E8F-AFD2-6E50259D5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59A9-6BD1-4E90-9EAC-8AA6D6585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DFD4-E168-497D-BD9C-422E50FED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96B9-99BB-413C-AA22-766CEA2E3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B1B-89F1-492D-B280-67AE4BF6F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A57D-9B44-4144-AF04-37747490CE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94EC-C5A0-4795-83F8-8698C8B35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F1A6-6726-4CA6-A73F-4F9FD21CD4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6246-9202-4A75-AEEE-664CC468B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4B6C-2154-4D8B-92FB-142510BF9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97F-F6F0-4127-B4F2-1F79DFD093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07AC-4297-4EBC-AC85-3BF6B338CC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533680" y="2155680"/>
            <a:ext cx="4076640" cy="6382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228760" y="3322800"/>
            <a:ext cx="4686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5124" descr=""/>
          <p:cNvPicPr/>
          <p:nvPr/>
        </p:nvPicPr>
        <p:blipFill>
          <a:blip r:embed="rId2"/>
          <a:stretch/>
        </p:blipFill>
        <p:spPr>
          <a:xfrm>
            <a:off x="195120" y="1467000"/>
            <a:ext cx="8753760" cy="3924000"/>
          </a:xfrm>
          <a:prstGeom prst="rect">
            <a:avLst/>
          </a:prstGeom>
          <a:ln w="0">
            <a:noFill/>
          </a:ln>
        </p:spPr>
      </p:pic>
      <p:sp>
        <p:nvSpPr>
          <p:cNvPr id="1030" name="直接连接符 5125"/>
          <p:cNvSpPr/>
          <p:nvPr/>
        </p:nvSpPr>
        <p:spPr>
          <a:xfrm>
            <a:off x="2556000" y="2421000"/>
            <a:ext cx="1368360" cy="503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5126"/>
          <p:cNvSpPr/>
          <p:nvPr/>
        </p:nvSpPr>
        <p:spPr>
          <a:xfrm>
            <a:off x="2527200" y="3573360"/>
            <a:ext cx="139716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5127"/>
          <p:cNvSpPr/>
          <p:nvPr/>
        </p:nvSpPr>
        <p:spPr>
          <a:xfrm flipV="1">
            <a:off x="2498760" y="3499920"/>
            <a:ext cx="1425600" cy="1297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5128"/>
          <p:cNvSpPr/>
          <p:nvPr/>
        </p:nvSpPr>
        <p:spPr>
          <a:xfrm flipV="1">
            <a:off x="5003640" y="2563560"/>
            <a:ext cx="2665440" cy="1873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5129"/>
          <p:cNvSpPr/>
          <p:nvPr/>
        </p:nvSpPr>
        <p:spPr>
          <a:xfrm flipV="1">
            <a:off x="5075280" y="3715920"/>
            <a:ext cx="2592360" cy="1731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5130"/>
          <p:cNvSpPr/>
          <p:nvPr/>
        </p:nvSpPr>
        <p:spPr>
          <a:xfrm>
            <a:off x="6227640" y="2492280"/>
            <a:ext cx="1024200" cy="19875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447840" y="1890720"/>
            <a:ext cx="8248320" cy="3076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403280" y="2363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40328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40328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403280" y="3933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04760" y="1442880"/>
            <a:ext cx="8934480" cy="39722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042920" y="1930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90440" y="574560"/>
            <a:ext cx="8763120" cy="6239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692360" y="4379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442764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7164360" y="4422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692360" y="6165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4427640" y="61801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48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